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13.wmf" ContentType="image/x-wmf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139-5978-40C0-93AF-6BD5B569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E03-641D-4B18-AB62-11267F59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B51-957A-4268-981D-5BB7F911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480-7440-4CDC-A137-2A8CC057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A23A-6B29-4825-8AD0-2E0D7E16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BBAE-4265-476F-979F-A70B50CD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01B6-B5EC-4672-B28A-39669F1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7CD6-A2EB-4142-9701-CEEB7D8C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686E-5DF1-4520-B999-E33A807B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AA41-FAD8-4DBD-8A2A-9F7B4B5F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F048-6C13-4E16-A198-40F12E82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BE2-A670-4EB0-86BB-A442AAF2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2D4A-016F-48F8-AA80-24B4C19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E735-49A1-4776-8C8F-E24A1C6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BB17-EA45-4330-9E58-398E451F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AD68-12C4-4570-B342-E86B6165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DED7-15F1-411F-816C-1771D247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AAC-B854-47C7-8247-715E54BE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96A-D897-4CE6-A26A-3D7C92EC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F0F-61CA-4982-A6DE-88EED04A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D5B-9E9A-4EC1-A0EE-63F5D7DB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D47-27CC-479C-A1DC-F90AE036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C36-6FBF-4409-B413-38AE343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C96-4BBE-4BB3-8B31-CD335969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4CEB-6521-45E1-9C24-91A9C4D03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F991-6304-4CE5-91D4-1DE329804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file:///tmp/home/.config/libreoffice/4/user/gallery/barney.wav" TargetMode="External"/><Relationship Id="rId3" Type="http://schemas.microsoft.com/office/2007/relationships/media" Target="file:///tmp/home/.config/libreoffice/4/user/gallery/barney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SN00014A.wav" TargetMode="External"/><Relationship Id="rId3" Type="http://schemas.microsoft.com/office/2007/relationships/media" Target="file:///tmp/home/.config/libreoffice/4/user/gallery/SN00014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692A.wav" TargetMode="External"/><Relationship Id="rId2" Type="http://schemas.microsoft.com/office/2007/relationships/media" Target="file:///tmp/home/.config/libreoffice/4/user/gallery/SN00692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j0074874.wav" TargetMode="External"/><Relationship Id="rId3" Type="http://schemas.microsoft.com/office/2007/relationships/media" Target="file:///tmp/home/.config/libreoffice/4/user/gallery/j0074874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00200" y="533520"/>
            <a:ext cx="655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A Mystery!</a:t>
            </a:r>
            <a:endParaRPr b="0" lang="en-US" sz="44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0" name="detectiv2" descr=""/>
          <p:cNvPicPr/>
          <p:nvPr/>
        </p:nvPicPr>
        <p:blipFill>
          <a:blip r:embed="rId3"/>
          <a:stretch/>
        </p:blipFill>
        <p:spPr>
          <a:xfrm>
            <a:off x="3048120" y="3276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57400" y="266688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663300"/>
                </a:solidFill>
                <a:uFillTx/>
                <a:latin typeface="Times New Roman"/>
              </a:rPr>
              <a:t>Drawing Conclus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60020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When you draw a conclusion you        use 2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895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 know 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2670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’ve read in the stor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181480"/>
            <a:ext cx="7238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A conclusion is the decision you come to when you put these two together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9320" y="53352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Drawing Conclusions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838080" y="1905120"/>
            <a:ext cx="81532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sleep in a cri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drink from a bo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cannot walk or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981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sleep in cri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2666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drink bott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5053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can’t do these things y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ust be a bab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j0365298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447920" y="457200"/>
            <a:ext cx="4190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or Example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1676520"/>
            <a:ext cx="541044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ut me on your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will keep you         warm and d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ear me when it r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1337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you wear socks and shoes on your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0481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Both of these keep you warm, but only shoes keep you d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45720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do you wear, on your     feet, when it rai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9320" y="5257800"/>
            <a:ext cx="403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inboot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AG00501_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302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4864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828800" y="45720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et's Try Again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198108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ou need me before you can mail a letter. Paste me on an envel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r Tur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840400">
            <a:off x="1066680" y="327636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postman, an envelope, and a stamp to mail a l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6600">
            <a:off x="6095880" y="32763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Only one of these would be pasted onto an envelop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s00737_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24717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67652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 am white.  You need me every day.  You drink me when you are thirsty.  I can make a moust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nd Agai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66680" y="3048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Lots of things are whi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lot of th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962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is white and you drin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41148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AND, It makes a moustach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29" name="jonahmilkm" descr=""/>
          <p:cNvPicPr/>
          <p:nvPr/>
        </p:nvPicPr>
        <p:blipFill>
          <a:blip r:embed="rId4"/>
          <a:stretch/>
        </p:blipFill>
        <p:spPr>
          <a:xfrm>
            <a:off x="1905120" y="1828800"/>
            <a:ext cx="5790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752480"/>
            <a:ext cx="8153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look like a bab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You can give me a n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Children like to play with 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 are AWESOME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looks like a ba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1905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Dolls?  Pictures? Hm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8862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can name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6576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Children play with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8" name="j0175479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60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1600200"/>
            <a:ext cx="73911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grow on an ear.  Cook me in hot oil.  I will puff up and taste good.  Some people microwave me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st Time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0481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grows on an ear?  Ear wax?  Earrings?  Corn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wouldn’t cook or taste ear wax or ear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4267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corn will puff up and it is sometimes cooked in the microwa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46" name="j0250766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5146560" cy="6019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9343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j0156953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5534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2:44:37Z</dcterms:created>
  <dc:creator>Melissa Caro</dc:creator>
  <dc:description/>
  <dc:language>en-US</dc:language>
  <cp:lastModifiedBy>Melissa Caro</cp:lastModifiedBy>
  <dcterms:modified xsi:type="dcterms:W3CDTF">2006-09-12T02:42:07Z</dcterms:modified>
  <cp:revision>19</cp:revision>
  <dc:subject/>
  <dc:title>PowerPoint Presentation</dc:title>
</cp:coreProperties>
</file>